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933-3C41-49F3-90DF-167A6D38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B8A-A97E-4F1C-85EB-77912BAA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8D5-E19A-4F30-B7A7-3F133431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2A7-20DD-4ED6-89D1-75B16186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F17-3D2A-4B87-98A4-58145B4D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C4C-F818-453C-85C0-60F23521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156-3012-4AF8-B9D4-D4B7E4B3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A5C-5038-463B-BBDC-871FC266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979-9802-43F9-A1FA-A185F2F4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F29-6750-4D76-A15A-ECB9D235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098-E2E1-4842-BF01-09F2A11E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596-E2CB-4419-BFF5-AE53248D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A7C0-D972-45EE-BAFB-2232E5DB7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nalc.org/resources/animations/gelelectrophoresi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nalc.org/resources/animations/restriction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 - Biotechnological Tools &amp;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pieces of non-chromosomal DNA found in bacteria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plasmids have been engineered to contain an area with many recognition sites (and none in other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be inserted into plasmids by using restriction enzymes and DNA lig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n introduce these genes into bacterial cells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are able to express foreign genes inserted into plasmids, such as the gene for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narrated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inauer.com/cooper5e/animation040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 of separating molecules based 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igrates through the gel towards a positive electr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ragments move faster through the gel, causing separation b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fragments can be seen by using a stain such as ethidium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interactive animation of gel electrophor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earn.genetics.utah.edu/content/labs/ge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how with focus on scientists and history of gel electrophor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resources/animations/gelelectrophoresi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living organisms in industrial, agricultural, medical, and other technologic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biotechnological tools and techniques used to gain knowledge of and to manipulat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restriction endonuclease (enzyme) isolated in 19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as an “immune system” against invading viruses by cutting up the viral DNA or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 enzymes cut double-stranded DNA at a specif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gnition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sites are alway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indr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(same sequence when read from the 5’ to 3’ direction on either str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arleyworld.org/css430_09/lecture%208-09/notes8-09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55600" y="1752480"/>
            <a:ext cx="675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nt Ends vs. Sticky En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hoolworkhelper.net/2010/07/restriction-endonucleases-or-restriction-enzym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606760"/>
            <a:ext cx="77724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ig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lig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to form the phosphodiester linkages between fragments of DNA cleaved by restriction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imple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resources/animations/restrictio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ylas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next slide: http://www.uic.edu/classes/bios/bios100/lectures/techniqu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that protect bacterial DNA from being cleaved by restriction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ethyl groups (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one of the bases in the recognition site, preventing digestion by restriction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47800" y="609480"/>
            <a:ext cx="744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26:53Z</dcterms:created>
  <dc:creator>rubina khan</dc:creator>
  <dc:description/>
  <dc:language>en-US</dc:language>
  <cp:lastModifiedBy>rubina khan</cp:lastModifiedBy>
  <dcterms:modified xsi:type="dcterms:W3CDTF">2011-11-29T19:14:20Z</dcterms:modified>
  <cp:revision>133</cp:revision>
  <dc:subject/>
  <dc:title>Biotechnological Tools and Techniques</dc:title>
</cp:coreProperties>
</file>